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6D8D-2CA1-42F6-AD53-0A5B7C15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B6C-978D-434E-A7A9-24CDD0AC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353-E47B-4B32-AD4D-E23E2F3B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A00-6AFC-4FC1-B445-16288C3C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4C8-2BE2-4EDD-A145-B9A90449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E3C-0CA1-4AB6-9164-25F56481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512-1C94-4F46-A100-8DCF148A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8A3-0835-4DBF-AD26-E0D7FFD0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9A0-1C70-4211-8535-5D273FEF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02D3-B2E0-43C9-8975-E28077E2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370-82E9-4408-909F-AA7B993D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9B88-4C70-4ACA-AA0B-6BF41CF8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0D36-70C4-45D0-8749-E1F0B93EC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you let your food sit in sunl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testing to see if sunlight effects how fruit rotte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sunlight will speed up decomposition because light has heat and heat causes fruit to r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ther all mater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 one of each fruit in a lightened room and let s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 one of each fruit in a dark room and let s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amine the fruit over a time period of 1-2 week and check it 2 times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th Grade the fruit on how much it has rotten by seeing how soft it is on a scale of 1 to 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pples, Bananas, P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k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 and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Open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= Light and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= How fast the fruit rot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= F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=1,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ana=1,2,3,5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        1,2,3,4,5,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k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= 1,1,2,2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ana= 1,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STERLING  USD376</cp:lastModifiedBy>
  <cp:lastPrinted>2009-04-22T19:24:48Z</cp:lastPrinted>
  <dcterms:modified xsi:type="dcterms:W3CDTF">2010-05-03T14:30:0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